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caralarmoff.wav" ContentType="audio/x-wav"/>
  <Override PartName="/ppt/media/lzipup01.wav" ContentType="audio/x-wav"/>
  <Override PartName="/ppt/media/jetflyby2.wav" ContentType="audio/x-wav"/>
  <Override PartName="/ppt/media/bserie06.wav" ContentType="audio/x-wav"/>
  <Override PartName="/ppt/media/zipby102.wav" ContentType="audio/x-wav"/>
  <Override PartName="/ppt/media/highchime.wav" ContentType="audio/x-wav"/>
  <Override PartName="/ppt/media/h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F0F-4598-4C42-8454-38A03982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C9E-9EB8-4475-99D8-829461F3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8F3E-3CA9-44A3-9F9D-B0F85251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E33-F685-4496-A13B-9FFEB0F1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DC4-07D9-4364-95F7-FF8994BA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EBB-6F5F-4298-8449-3EB588C6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C6B-7848-4E3A-983F-33A4DE95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9BB-16DC-4094-A1E4-68BC625A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47D2-FC53-45FB-96A5-9071D01E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C7A-DDDF-44AB-8844-AE4CB42E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300-1C09-4B34-98DD-25811749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034-16C2-4758-8309-6457C60F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7014-896B-457D-B0EE-777F4AE10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caralarmoff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apbig0g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zapbig0g.wav"/><Relationship Id="rId12" Type="http://schemas.openxmlformats.org/officeDocument/2006/relationships/audio" Target="../media/bserie06.wav"/><Relationship Id="rId13" Type="http://schemas.openxmlformats.org/officeDocument/2006/relationships/audio" Target="../media/jetflyby2.wav"/><Relationship Id="rId14" Type="http://schemas.openxmlformats.org/officeDocument/2006/relationships/audio" Target="../media/zapbig0g.wav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audio" Target="../media/jetflyby2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ipby102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jetflyby2.wav"/><Relationship Id="rId5" Type="http://schemas.openxmlformats.org/officeDocument/2006/relationships/audio" Target="../media/bserie06.wav"/><Relationship Id="rId6" Type="http://schemas.openxmlformats.org/officeDocument/2006/relationships/audio" Target="../media/jetflyby2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highchime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hzipup01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audio" Target="../media/hzipup01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zapbig0g.wav"/><Relationship Id="rId26" Type="http://schemas.openxmlformats.org/officeDocument/2006/relationships/audio" Target="../media/zapbig0g.wav"/><Relationship Id="rId27" Type="http://schemas.openxmlformats.org/officeDocument/2006/relationships/audio" Target="../media/bserie06.wav"/><Relationship Id="rId28" Type="http://schemas.openxmlformats.org/officeDocument/2006/relationships/audio" Target="../media/bserie06.wav"/><Relationship Id="rId29" Type="http://schemas.openxmlformats.org/officeDocument/2006/relationships/audio" Target="../media/bserie06.wav"/><Relationship Id="rId30" Type="http://schemas.openxmlformats.org/officeDocument/2006/relationships/audio" Target="../media/bserie06.wav"/><Relationship Id="rId31" Type="http://schemas.openxmlformats.org/officeDocument/2006/relationships/audio" Target="../media/jetflyby2.wav"/><Relationship Id="rId32" Type="http://schemas.openxmlformats.org/officeDocument/2006/relationships/audio" Target="../media/jetflyby2.wav"/><Relationship Id="rId3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highchime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hzipup01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zapbig0g.wav"/><Relationship Id="rId21" Type="http://schemas.openxmlformats.org/officeDocument/2006/relationships/audio" Target="../media/zapbig0g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audio" Target="../media/bserie06.wav"/><Relationship Id="rId25" Type="http://schemas.openxmlformats.org/officeDocument/2006/relationships/audio" Target="../media/bserie06.wav"/><Relationship Id="rId26" Type="http://schemas.openxmlformats.org/officeDocument/2006/relationships/audio" Target="../media/bserie06.wav"/><Relationship Id="rId27" Type="http://schemas.openxmlformats.org/officeDocument/2006/relationships/audio" Target="../media/bserie06.wav"/><Relationship Id="rId28" Type="http://schemas.openxmlformats.org/officeDocument/2006/relationships/audio" Target="../media/jetflyby2.wav"/><Relationship Id="rId29" Type="http://schemas.openxmlformats.org/officeDocument/2006/relationships/audio" Target="../media/jetflyby2.wav"/><Relationship Id="rId3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highchime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hzipup01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hzipup01.wav"/><Relationship Id="rId17" Type="http://schemas.openxmlformats.org/officeDocument/2006/relationships/audio" Target="../media/zapbig0g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audio" Target="../media/zapbig0g.wav"/><Relationship Id="rId22" Type="http://schemas.openxmlformats.org/officeDocument/2006/relationships/audio" Target="../media/bserie06.wav"/><Relationship Id="rId23" Type="http://schemas.openxmlformats.org/officeDocument/2006/relationships/audio" Target="../media/bserie06.wav"/><Relationship Id="rId24" Type="http://schemas.openxmlformats.org/officeDocument/2006/relationships/audio" Target="../media/bserie06.wav"/><Relationship Id="rId25" Type="http://schemas.openxmlformats.org/officeDocument/2006/relationships/audio" Target="../media/bserie06.wav"/><Relationship Id="rId26" Type="http://schemas.openxmlformats.org/officeDocument/2006/relationships/audio" Target="../media/jetflyby2.wav"/><Relationship Id="rId27" Type="http://schemas.openxmlformats.org/officeDocument/2006/relationships/audio" Target="../media/jetflyby2.wav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jetflyby2.wav"/><Relationship Id="rId7" Type="http://schemas.openxmlformats.org/officeDocument/2006/relationships/audio" Target="../media/highchime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hzipup01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jetflyby2.wav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950760" y="2917800"/>
                <a:ext cx="8956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ercents and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212920" y="2900520"/>
                <a:ext cx="15145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276120" y="143820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Write a number equation for each percent f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31960" y="298116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727440" y="3122640"/>
                <a:ext cx="3348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304920" y="1940040"/>
            <a:ext cx="606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15 is 50% of 3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097160" y="2890800"/>
                <a:ext cx="9496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011240" y="4911840"/>
                <a:ext cx="6159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133720" y="4881600"/>
                <a:ext cx="1514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1652760" y="4962600"/>
            <a:ext cx="9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648240" y="5103720"/>
                <a:ext cx="3348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25360" y="3921120"/>
            <a:ext cx="60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2 is 25% of 8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024440" y="4886280"/>
                <a:ext cx="558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17440" y="2917800"/>
                <a:ext cx="5605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ercents and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212920" y="2900520"/>
                <a:ext cx="15145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276120" y="143820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Write a number equation for each percent f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31960" y="298116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727440" y="3122640"/>
                <a:ext cx="3348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04920" y="1940040"/>
            <a:ext cx="606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3 is 60% of 5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19480" y="2890800"/>
                <a:ext cx="558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137120" y="5378400"/>
                <a:ext cx="9525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987480" y="5419800"/>
                <a:ext cx="1514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641760" y="546876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430360" y="5641920"/>
                <a:ext cx="3351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14360" y="3890880"/>
            <a:ext cx="872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4. 45% 0f 80 students is 36 stud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654280" y="5396040"/>
                <a:ext cx="95076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the Percents of a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ercent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979880" y="2900520"/>
                <a:ext cx="6145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719360" y="2813040"/>
                <a:ext cx="1514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460760" y="287964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233880" y="3035160"/>
                <a:ext cx="3348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304920" y="1940040"/>
            <a:ext cx="883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75% of 32 students is what number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603600" y="2803680"/>
                <a:ext cx="9493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566640" y="3787920"/>
            <a:ext cx="3192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othing is being done to the variable so just multi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42080" y="295128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7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70560" y="438768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91360" y="42591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3538440"/>
            <a:ext cx="118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70560" y="3726000"/>
            <a:ext cx="5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48320" y="4259160"/>
            <a:ext cx="9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24800" y="49291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0200" y="4930920"/>
            <a:ext cx="9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92840" y="5729400"/>
            <a:ext cx="173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85160" y="571176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00680" y="5713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3480" y="5718240"/>
            <a:ext cx="6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73760" y="5719680"/>
            <a:ext cx="8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07320" y="2475000"/>
            <a:ext cx="53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27960" y="5738760"/>
            <a:ext cx="8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/>
          <p:nvPr/>
        </p:nvCxnSpPr>
        <p:spPr>
          <a:xfrm flipV="1" rot="16200000">
            <a:off x="7491600" y="337500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 flipV="1" rot="16200000">
            <a:off x="7093440" y="34131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98" name=""/>
          <p:cNvCxnSpPr/>
          <p:nvPr/>
        </p:nvCxnSpPr>
        <p:spPr>
          <a:xfrm flipV="1" rot="16200000">
            <a:off x="7380720" y="62564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 flipV="1" rot="16200000">
            <a:off x="6982200" y="625464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6913440" y="2428920"/>
            <a:ext cx="5382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64360" y="3965400"/>
            <a:ext cx="53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185920" y="5770440"/>
                <a:ext cx="21225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the Percents of a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ercent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771560" y="2754360"/>
                <a:ext cx="614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87480" y="2608200"/>
                <a:ext cx="1406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282760" y="268920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248000" y="2830680"/>
                <a:ext cx="3351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04920" y="1940040"/>
            <a:ext cx="883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Georg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What is 115% of 60 student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618080" y="2598840"/>
                <a:ext cx="9493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66640" y="3787920"/>
            <a:ext cx="3192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othing is being done to the variable so just multi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42080" y="295128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1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70560" y="438768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91360" y="42591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3538440"/>
            <a:ext cx="118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70560" y="3726000"/>
            <a:ext cx="5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48320" y="4259160"/>
            <a:ext cx="9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24800" y="49291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0200" y="4930920"/>
            <a:ext cx="9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92840" y="5729400"/>
            <a:ext cx="173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85160" y="571176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0680" y="5713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3480" y="5718240"/>
            <a:ext cx="6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73760" y="5719680"/>
            <a:ext cx="8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07320" y="2475000"/>
            <a:ext cx="53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7960" y="5738760"/>
            <a:ext cx="8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/>
          <p:nvPr/>
        </p:nvCxnSpPr>
        <p:spPr>
          <a:xfrm flipV="1" rot="16200000">
            <a:off x="7491600" y="337500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29" name=""/>
          <p:cNvCxnSpPr/>
          <p:nvPr/>
        </p:nvCxnSpPr>
        <p:spPr>
          <a:xfrm flipV="1" rot="16200000">
            <a:off x="7093440" y="34131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30" name=""/>
          <p:cNvCxnSpPr/>
          <p:nvPr/>
        </p:nvCxnSpPr>
        <p:spPr>
          <a:xfrm flipV="1" rot="16200000">
            <a:off x="7380720" y="62564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31" name=""/>
          <p:cNvCxnSpPr/>
          <p:nvPr/>
        </p:nvCxnSpPr>
        <p:spPr>
          <a:xfrm flipV="1" rot="16200000">
            <a:off x="6982200" y="625464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185920" y="5770440"/>
                <a:ext cx="21225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567400" y="4937040"/>
            <a:ext cx="9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4281480"/>
            <a:ext cx="94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the Percents of a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ercent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71560" y="2754360"/>
                <a:ext cx="614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733840" y="2608200"/>
                <a:ext cx="15141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2282760" y="268920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248000" y="2830680"/>
                <a:ext cx="3351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304920" y="1940040"/>
            <a:ext cx="883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What is 60% of 35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18080" y="2598840"/>
                <a:ext cx="9493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66640" y="3787920"/>
            <a:ext cx="3192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othing is being done to the variable so just multi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42080" y="295128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0.6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70560" y="438768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91360" y="42591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3538440"/>
            <a:ext cx="118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70560" y="3726000"/>
            <a:ext cx="5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48320" y="4259160"/>
            <a:ext cx="9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24800" y="492912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0200" y="4930920"/>
            <a:ext cx="9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92840" y="5729400"/>
            <a:ext cx="173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5160" y="571176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00680" y="5713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3480" y="5718240"/>
            <a:ext cx="6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73760" y="5719680"/>
            <a:ext cx="8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27960" y="5738760"/>
            <a:ext cx="8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/>
          <p:nvPr/>
        </p:nvCxnSpPr>
        <p:spPr>
          <a:xfrm flipV="1" rot="16200000">
            <a:off x="7491600" y="337500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60" name=""/>
          <p:cNvCxnSpPr/>
          <p:nvPr/>
        </p:nvCxnSpPr>
        <p:spPr>
          <a:xfrm flipV="1" rot="16200000">
            <a:off x="7093440" y="34131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61" name=""/>
          <p:cNvCxnSpPr/>
          <p:nvPr/>
        </p:nvCxnSpPr>
        <p:spPr>
          <a:xfrm flipV="1" rot="16200000">
            <a:off x="7380720" y="62564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62" name=""/>
          <p:cNvCxnSpPr/>
          <p:nvPr/>
        </p:nvCxnSpPr>
        <p:spPr>
          <a:xfrm flipV="1" rot="16200000">
            <a:off x="6982200" y="625464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212920" y="5770440"/>
                <a:ext cx="20671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999040" y="4402080"/>
            <a:ext cx="53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the Percents of a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ercent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498920" y="2724120"/>
                <a:ext cx="614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876240" y="2622600"/>
                <a:ext cx="1514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3994200" y="268776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390760" y="2844720"/>
                <a:ext cx="3348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0" y="1940040"/>
            <a:ext cx="9501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64"/>
              </a:spcBef>
              <a:buClr>
                <a:srgbClr val="000000"/>
              </a:buClr>
              <a:buFont typeface="Georgi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8% of 200 books are how many books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709720" y="2612880"/>
                <a:ext cx="13971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566640" y="3787920"/>
            <a:ext cx="3192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othing is being done to the variable so just multi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84920" y="353232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0.08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70560" y="438768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91360" y="42591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23200" y="2870280"/>
            <a:ext cx="13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05360" y="3697200"/>
            <a:ext cx="5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48320" y="4259160"/>
            <a:ext cx="9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2480" y="4243320"/>
            <a:ext cx="8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 flipV="1" rot="16200000">
            <a:off x="7534440" y="395604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83" name=""/>
          <p:cNvCxnSpPr/>
          <p:nvPr/>
        </p:nvCxnSpPr>
        <p:spPr>
          <a:xfrm flipV="1" rot="16200000">
            <a:off x="7136280" y="39942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84" name=""/>
          <p:cNvCxnSpPr/>
          <p:nvPr/>
        </p:nvCxnSpPr>
        <p:spPr>
          <a:xfrm flipV="1" rot="16200000">
            <a:off x="7467840" y="47610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85" name=""/>
          <p:cNvCxnSpPr/>
          <p:nvPr/>
        </p:nvCxnSpPr>
        <p:spPr>
          <a:xfrm flipV="1" rot="16200000">
            <a:off x="7069320" y="475920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212920" y="5770440"/>
                <a:ext cx="20671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019920" y="4281480"/>
            <a:ext cx="94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37952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55, 10 – 6 #1-8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57, 10 – 7 #1-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1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3-16T18:20:32Z</dcterms:modified>
  <cp:revision>97</cp:revision>
  <dc:subject/>
  <dc:title>Slide 1</dc:title>
</cp:coreProperties>
</file>